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1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49.wmf" ContentType="image/x-wmf"/>
  <Override PartName="/ppt/media/image29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51.wmf" ContentType="image/x-wmf"/>
  <Override PartName="/ppt/media/image48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3BC-4D33-4D93-B1D4-9B7056C5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B70-47A2-4020-91CE-AAD5086B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D8F-16CC-4D1A-A3E1-C8FFF91F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91F-9F64-4408-AF8D-FC71782C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494-2FAF-4B15-B7F3-3434E85B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100-50DF-4C63-B868-13EC43B5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C69-C31C-4C29-837B-33FF6D17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9A7-0CD7-4013-92AA-A7469283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B53-3E54-491C-9990-41C9C6E7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A5F-1F54-4235-A528-6A17B004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C60-F195-468A-8166-7D794D9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696-B115-4BF7-8A4C-562C72A1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3608-0FC9-4BC4-9A39-884230C49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1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1.wm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action/effect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ral control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7057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371600"/>
            <a:ext cx="64771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255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1676520"/>
            <a:ext cx="69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136" t="2453" r="48195" b="23382"/>
          <a:stretch/>
        </p:blipFill>
        <p:spPr>
          <a:xfrm>
            <a:off x="914400" y="533520"/>
            <a:ext cx="7620120" cy="491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26744" t="78558" r="24419" b="7585"/>
          <a:stretch/>
        </p:blipFill>
        <p:spPr>
          <a:xfrm>
            <a:off x="1371600" y="5410080"/>
            <a:ext cx="5943600" cy="99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5410080"/>
            <a:ext cx="4572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410080"/>
            <a:ext cx="12193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1517"/>
          <a:stretch/>
        </p:blipFill>
        <p:spPr>
          <a:xfrm>
            <a:off x="380880" y="38088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9480" y="380880"/>
            <a:ext cx="8077320" cy="541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84454" r="0" b="7610"/>
          <a:stretch/>
        </p:blipFill>
        <p:spPr>
          <a:xfrm>
            <a:off x="609480" y="5791320"/>
            <a:ext cx="8077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175" t="9288" r="46088" b="59494"/>
          <a:stretch/>
        </p:blipFill>
        <p:spPr>
          <a:xfrm>
            <a:off x="1219320" y="11430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438" t="9813" r="25931" b="7610"/>
          <a:stretch/>
        </p:blipFill>
        <p:spPr>
          <a:xfrm>
            <a:off x="53352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8580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53352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 Involving Several Risk Fac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9226"/>
          <a:stretch/>
        </p:blipFill>
        <p:spPr>
          <a:xfrm>
            <a:off x="685800" y="45720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86600" y="5791320"/>
            <a:ext cx="15238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15700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3320" y="34776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575"/>
          <a:stretch/>
        </p:blipFill>
        <p:spPr>
          <a:xfrm>
            <a:off x="380880" y="838080"/>
            <a:ext cx="8305920" cy="5529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3200" y="3049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5726"/>
          <a:stretch/>
        </p:blipFill>
        <p:spPr>
          <a:xfrm>
            <a:off x="609480" y="682560"/>
            <a:ext cx="80010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286000"/>
            <a:ext cx="831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0" b="44255"/>
          <a:stretch/>
        </p:blipFill>
        <p:spPr>
          <a:xfrm>
            <a:off x="457200" y="914400"/>
            <a:ext cx="8381880" cy="3886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0" t="70620" r="0" b="10808"/>
          <a:stretch/>
        </p:blipFill>
        <p:spPr>
          <a:xfrm>
            <a:off x="457200" y="4800600"/>
            <a:ext cx="838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42245" r="0" b="42994"/>
          <a:stretch/>
        </p:blipFill>
        <p:spPr>
          <a:xfrm>
            <a:off x="838080" y="51055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36763" r="0" b="12918"/>
          <a:stretch/>
        </p:blipFill>
        <p:spPr>
          <a:xfrm>
            <a:off x="838080" y="914400"/>
            <a:ext cx="7620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4457"/>
          <a:stretch/>
        </p:blipFill>
        <p:spPr>
          <a:xfrm>
            <a:off x="533520" y="380880"/>
            <a:ext cx="8305560" cy="609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29597" t="72600" r="35721" b="7610"/>
          <a:stretch/>
        </p:blipFill>
        <p:spPr>
          <a:xfrm>
            <a:off x="3505320" y="5334120"/>
            <a:ext cx="2590560" cy="114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1320" y="5334120"/>
            <a:ext cx="5331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9262" t="24298" r="58337" b="68421"/>
          <a:stretch/>
        </p:blipFill>
        <p:spPr>
          <a:xfrm>
            <a:off x="1905120" y="2133720"/>
            <a:ext cx="266688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42245" r="0" b="42994"/>
          <a:stretch/>
        </p:blipFill>
        <p:spPr>
          <a:xfrm>
            <a:off x="685800" y="51055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0" t="39129" r="0" b="17962"/>
          <a:stretch/>
        </p:blipFill>
        <p:spPr>
          <a:xfrm>
            <a:off x="685800" y="2590920"/>
            <a:ext cx="777240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0" t="2528" r="0" b="74765"/>
          <a:stretch/>
        </p:blipFill>
        <p:spPr>
          <a:xfrm>
            <a:off x="685800" y="76212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2133720"/>
            <a:ext cx="1219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133720"/>
            <a:ext cx="3886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rcRect l="0" t="42245" r="99029" b="42994"/>
          <a:stretch/>
        </p:blipFill>
        <p:spPr>
          <a:xfrm>
            <a:off x="685800" y="2133720"/>
            <a:ext cx="7632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rcRect l="0" t="42245" r="99029" b="42994"/>
          <a:stretch/>
        </p:blipFill>
        <p:spPr>
          <a:xfrm>
            <a:off x="8381880" y="2133720"/>
            <a:ext cx="76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457200" y="685800"/>
            <a:ext cx="83818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11841"/>
          <a:stretch/>
        </p:blipFill>
        <p:spPr>
          <a:xfrm>
            <a:off x="7621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46451" r="0" b="9438"/>
          <a:stretch/>
        </p:blipFill>
        <p:spPr>
          <a:xfrm>
            <a:off x="609480" y="3429000"/>
            <a:ext cx="800100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4969" r="0" b="44711"/>
          <a:stretch/>
        </p:blipFill>
        <p:spPr>
          <a:xfrm>
            <a:off x="609480" y="457200"/>
            <a:ext cx="800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964" t="3943" r="2882" b="53949"/>
          <a:stretch/>
        </p:blipFill>
        <p:spPr>
          <a:xfrm>
            <a:off x="533520" y="685800"/>
            <a:ext cx="815328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20006" t="45675" r="30004" b="7448"/>
          <a:stretch/>
        </p:blipFill>
        <p:spPr>
          <a:xfrm>
            <a:off x="533520" y="3352680"/>
            <a:ext cx="419076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21159" t="46063" r="28851" b="7898"/>
          <a:stretch/>
        </p:blipFill>
        <p:spPr>
          <a:xfrm>
            <a:off x="4724280" y="33526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5723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28915"/>
          <a:stretch/>
        </p:blipFill>
        <p:spPr>
          <a:xfrm>
            <a:off x="533520" y="68580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8649"/>
          <a:stretch/>
        </p:blipFill>
        <p:spPr>
          <a:xfrm>
            <a:off x="609480" y="304920"/>
            <a:ext cx="8001000" cy="6095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14610" t="42058" r="3997" b="44148"/>
          <a:stretch/>
        </p:blipFill>
        <p:spPr>
          <a:xfrm>
            <a:off x="3886200" y="2666880"/>
            <a:ext cx="46483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2003" t="0" r="2003" b="55301"/>
          <a:stretch/>
        </p:blipFill>
        <p:spPr>
          <a:xfrm>
            <a:off x="838080" y="609480"/>
            <a:ext cx="769644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24003" t="44611" r="22000" b="7285"/>
          <a:stretch/>
        </p:blipFill>
        <p:spPr>
          <a:xfrm>
            <a:off x="4419720" y="33526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26006" t="42058" r="20006" b="10264"/>
          <a:stretch/>
        </p:blipFill>
        <p:spPr>
          <a:xfrm>
            <a:off x="838080" y="320040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27851"/>
          <a:stretch/>
        </p:blipFill>
        <p:spPr>
          <a:xfrm>
            <a:off x="685800" y="38088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0665"/>
          <a:stretch/>
        </p:blipFill>
        <p:spPr>
          <a:xfrm>
            <a:off x="914400" y="457200"/>
            <a:ext cx="7467480" cy="579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5638680"/>
            <a:ext cx="754380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sufficient to control for either K or 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ontrol for confou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:  Validity Versus Preci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457200"/>
            <a:ext cx="84582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0" r="0" b="37664"/>
          <a:stretch/>
        </p:blipFill>
        <p:spPr>
          <a:xfrm>
            <a:off x="609480" y="8380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0" b="44359"/>
          <a:stretch/>
        </p:blipFill>
        <p:spPr>
          <a:xfrm>
            <a:off x="609480" y="838080"/>
            <a:ext cx="7772400" cy="312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696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09480" y="380880"/>
            <a:ext cx="78487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5943600"/>
            <a:ext cx="60958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5715000"/>
            <a:ext cx="16765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0" r="0" b="27797"/>
          <a:stretch/>
        </p:blipFill>
        <p:spPr>
          <a:xfrm>
            <a:off x="533520" y="380880"/>
            <a:ext cx="8153280" cy="4496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2012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36225"/>
          <a:stretch/>
        </p:blipFill>
        <p:spPr>
          <a:xfrm>
            <a:off x="533520" y="380880"/>
            <a:ext cx="8076960" cy="403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72213" r="0" b="18165"/>
          <a:stretch/>
        </p:blipFill>
        <p:spPr>
          <a:xfrm>
            <a:off x="533520" y="4419720"/>
            <a:ext cx="8076960" cy="598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9480" y="5029200"/>
            <a:ext cx="7848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11841" r="0" b="7610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0" y="5791320"/>
            <a:ext cx="1616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81845" r="0" b="9746"/>
          <a:stretch/>
        </p:blipFill>
        <p:spPr>
          <a:xfrm>
            <a:off x="533520" y="2133720"/>
            <a:ext cx="7772400" cy="533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75000" y="2514600"/>
            <a:ext cx="5757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22860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0" t="48237" r="0" b="36225"/>
          <a:stretch/>
        </p:blipFill>
        <p:spPr>
          <a:xfrm>
            <a:off x="533520" y="12193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0" r="0" b="8144"/>
          <a:stretch/>
        </p:blipFill>
        <p:spPr>
          <a:xfrm>
            <a:off x="380880" y="609480"/>
            <a:ext cx="83822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8487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92468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85800" y="762120"/>
            <a:ext cx="8077320" cy="579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24584" r="0" b="63137"/>
          <a:stretch/>
        </p:blipFill>
        <p:spPr>
          <a:xfrm>
            <a:off x="685800" y="380880"/>
            <a:ext cx="8077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716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6:14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